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675-8DDB-4028-9995-40C99D31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258-A313-4C6C-818A-C3B2EE9C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461-F998-447D-84AC-60BFCD1A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981-BD25-42AE-A7BE-B0397DFE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9E1-5847-4661-83F7-BE0286F6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DD8-9290-46C4-9009-CF5E4490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146-E390-4104-90CB-1392101E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654-C83D-4CA6-9C65-D0C174DE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CD2-11E1-42C8-9E2A-4C14A67B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96B-30BC-4CE1-927F-757054DF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3A7-F30C-44BF-81E4-265ADCD9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2F3-FD19-4718-80A0-49E1992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14C7-1FEE-4C7B-8DBA-F8D0CE1C5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257987lPLwnGivWK_ph" descr=""/>
          <p:cNvPicPr/>
          <p:nvPr/>
        </p:nvPicPr>
        <p:blipFill>
          <a:blip r:embed="rId1"/>
          <a:stretch/>
        </p:blipFill>
        <p:spPr>
          <a:xfrm>
            <a:off x="3657600" y="-571680"/>
            <a:ext cx="6095880" cy="800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920"/>
            <a:ext cx="3581280" cy="9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طوبى لمَن يراعي المسك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ينقذهُ الرب في يوم السوء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0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876960" y="228600"/>
            <a:ext cx="6419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الربُّ يعضُدُهُ على سرير الأل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7:50:20Z</dcterms:created>
  <dc:creator>SUZANNE.MD</dc:creator>
  <dc:description/>
  <dc:language>en-US</dc:language>
  <cp:lastModifiedBy>USER</cp:lastModifiedBy>
  <dcterms:modified xsi:type="dcterms:W3CDTF">2003-02-20T14:08:25Z</dcterms:modified>
  <cp:revision>2</cp:revision>
  <dc:subject/>
  <dc:title>PowerPoint Presentation</dc:title>
</cp:coreProperties>
</file>